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FC5-26BA-4CA4-AA3C-C2AE1FCC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FDF-BB9C-4AF6-9720-0508103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7D3-4315-474E-B991-A126CB94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641-C5B1-4C7F-BAC9-CDCD0344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310E-079A-4ED7-B38A-DA140E2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B026-4433-4339-A9E5-B567A7A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314-DC79-4798-9C96-D2C65F4D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88E9-7227-4977-8897-DE922A69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1F2E-282F-4401-B4E0-A99650BE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750F-016E-420C-87FF-689B563F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2C2E-D921-4E16-BBEB-5EB166E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BAE-948D-40A7-8ECE-357EE9CF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2BD5-BD52-4E7D-B0DD-D166D03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A1F6-312C-4C8E-B709-87C039C5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B19D-3A13-4B0D-BAAC-DFE77467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F29-535A-4DC8-B893-490059E0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306D-3778-4DCE-8F46-7F81C120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C18-371F-44B2-A30A-D30F3ED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4F2-F741-45BF-B16E-40D8791E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CAC-2BEE-46A8-91A8-CC9B53A1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1F4-FA1F-46BA-9036-F29D6449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627-148C-466C-9FD5-6F783B7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474-0BF9-4AED-BFD7-F794CFC8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B81-7A39-428D-A451-10F39509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F48-CFC4-4FA7-A206-89AFDD373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8257-D8AA-40BD-ACCE-51DA21BDE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../../LHM%20MKTG%207e/Supp%20-%20MKTR/Cover.ppt" TargetMode="Externa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5.xml"/><Relationship Id="rId9" Type="http://schemas.openxmlformats.org/officeDocument/2006/relationships/slide" Target="slide56.xml"/><Relationship Id="rId10" Type="http://schemas.openxmlformats.org/officeDocument/2006/relationships/slide" Target="slide57.xml"/><Relationship Id="rId11" Type="http://schemas.openxmlformats.org/officeDocument/2006/relationships/slide" Target="slide43.xml"/><Relationship Id="rId12" Type="http://schemas.openxmlformats.org/officeDocument/2006/relationships/slide" Target="slide44.xml"/><Relationship Id="rId13" Type="http://schemas.openxmlformats.org/officeDocument/2006/relationships/slide" Target="slide45.xml"/><Relationship Id="rId14" Type="http://schemas.openxmlformats.org/officeDocument/2006/relationships/slide" Target="slide46.xm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9760" y="22860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lcome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80" y="3174840"/>
            <a:ext cx="7895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fo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10th Ed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Lamb, Hair and Mc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th-Western/Cengage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hapter 3 – Ethics and Social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040" y="535932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eated by John T. Drea, Western Illinois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3048120" y="5943600"/>
            <a:ext cx="3581280" cy="685800"/>
          </a:xfrm>
          <a:custGeom>
            <a:avLst/>
            <a:gdLst>
              <a:gd name="textAreaLeft" fmla="*/ 147600 w 3581280"/>
              <a:gd name="textAreaRight" fmla="*/ 3433680 w 3581280"/>
              <a:gd name="textAreaTop" fmla="*/ 147600 h 685800"/>
              <a:gd name="textAreaBottom" fmla="*/ 538200 h 685800"/>
            </a:gdLst>
            <a:ahLst/>
            <a:rect l="textAreaLeft" t="textAreaTop" r="textAreaRight" b="textAreaBottom"/>
            <a:pathLst>
              <a:path w="112748" h="21600">
                <a:moveTo>
                  <a:pt x="0" y="0"/>
                </a:moveTo>
                <a:lnTo>
                  <a:pt x="112748" y="0"/>
                </a:lnTo>
                <a:lnTo>
                  <a:pt x="112748" y="21600"/>
                </a:lnTo>
                <a:lnTo>
                  <a:pt x="0" y="21600"/>
                </a:lnTo>
                <a:close/>
              </a:path>
              <a:path fill="lightenLess" w="112748" h="21600">
                <a:moveTo>
                  <a:pt x="0" y="0"/>
                </a:moveTo>
                <a:lnTo>
                  <a:pt x="112748" y="0"/>
                </a:lnTo>
                <a:lnTo>
                  <a:pt x="108099" y="4650"/>
                </a:lnTo>
                <a:lnTo>
                  <a:pt x="4650" y="4650"/>
                </a:lnTo>
                <a:close/>
              </a:path>
              <a:path fill="darken" w="112748" h="21600">
                <a:moveTo>
                  <a:pt x="112748" y="0"/>
                </a:moveTo>
                <a:lnTo>
                  <a:pt x="112748" y="21600"/>
                </a:lnTo>
                <a:lnTo>
                  <a:pt x="108099" y="16950"/>
                </a:lnTo>
                <a:lnTo>
                  <a:pt x="108099" y="4650"/>
                </a:lnTo>
                <a:close/>
              </a:path>
              <a:path fill="darkenLess" w="112748" h="21600">
                <a:moveTo>
                  <a:pt x="112748" y="21600"/>
                </a:moveTo>
                <a:lnTo>
                  <a:pt x="0" y="21600"/>
                </a:lnTo>
                <a:lnTo>
                  <a:pt x="4650" y="16950"/>
                </a:lnTo>
                <a:lnTo>
                  <a:pt x="108099" y="16950"/>
                </a:lnTo>
                <a:close/>
              </a:path>
              <a:path fill="lighten" w="112748" h="21600">
                <a:moveTo>
                  <a:pt x="0" y="21600"/>
                </a:moveTo>
                <a:lnTo>
                  <a:pt x="0" y="0"/>
                </a:lnTo>
                <a:lnTo>
                  <a:pt x="4650" y="4650"/>
                </a:lnTo>
                <a:lnTo>
                  <a:pt x="4650" y="1695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here to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066680"/>
            <a:ext cx="8153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Wants to Be a Marketer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level of morality at which people are more concerned with how they’d judge themselves in the long r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tconventional mor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Agreement among peers; one of the factors that influences ethical decision ma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cial consens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Setting a good example, keeping promises and commitments, and supporting others’ adherence to ethics stand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thics-related actions with greatest imp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Creating a detailed code of ethics is an empty exercise without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op management suppo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theory in corporate social responsibility; the idea that business that practice social responsibility will outperform their pe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ustainabi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akeholder that expects good citizenship from a cor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ocal commun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stakeholders whose jobs and incomes are affected by the social responsibility of the fi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mployees and manage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66680" y="838080"/>
            <a:ext cx="6629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pen Challenge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2664360" y="3809880"/>
            <a:ext cx="468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how much of your to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ant to wager, then click be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3048120" y="5205240"/>
            <a:ext cx="3733560" cy="1652760"/>
          </a:xfrm>
          <a:custGeom>
            <a:avLst/>
            <a:gdLst>
              <a:gd name="textAreaLeft" fmla="*/ 172800 w 3733560"/>
              <a:gd name="textAreaRight" fmla="*/ 3560760 w 3733560"/>
              <a:gd name="textAreaTop" fmla="*/ 172800 h 1652760"/>
              <a:gd name="textAreaBottom" fmla="*/ 1479960 h 1652760"/>
            </a:gdLst>
            <a:ahLst/>
            <a:rect l="textAreaLeft" t="textAreaTop" r="textAreaRight" b="textAreaBottom"/>
            <a:pathLst>
              <a:path w="48788" h="21600">
                <a:moveTo>
                  <a:pt x="0" y="0"/>
                </a:moveTo>
                <a:lnTo>
                  <a:pt x="48788" y="0"/>
                </a:lnTo>
                <a:lnTo>
                  <a:pt x="48788" y="21600"/>
                </a:lnTo>
                <a:lnTo>
                  <a:pt x="0" y="21600"/>
                </a:lnTo>
                <a:close/>
              </a:path>
              <a:path fill="lightenLess" w="48788" h="21600">
                <a:moveTo>
                  <a:pt x="0" y="0"/>
                </a:moveTo>
                <a:lnTo>
                  <a:pt x="48788" y="0"/>
                </a:lnTo>
                <a:lnTo>
                  <a:pt x="46526" y="2262"/>
                </a:lnTo>
                <a:lnTo>
                  <a:pt x="2262" y="2262"/>
                </a:lnTo>
                <a:close/>
              </a:path>
              <a:path fill="darken" w="48788" h="21600">
                <a:moveTo>
                  <a:pt x="48788" y="0"/>
                </a:moveTo>
                <a:lnTo>
                  <a:pt x="48788" y="21600"/>
                </a:lnTo>
                <a:lnTo>
                  <a:pt x="46526" y="19338"/>
                </a:lnTo>
                <a:lnTo>
                  <a:pt x="46526" y="2262"/>
                </a:lnTo>
                <a:close/>
              </a:path>
              <a:path fill="darkenLess" w="48788" h="21600">
                <a:moveTo>
                  <a:pt x="48788" y="21600"/>
                </a:moveTo>
                <a:lnTo>
                  <a:pt x="0" y="21600"/>
                </a:lnTo>
                <a:lnTo>
                  <a:pt x="2262" y="19338"/>
                </a:lnTo>
                <a:lnTo>
                  <a:pt x="46526" y="19338"/>
                </a:lnTo>
                <a:close/>
              </a:path>
              <a:path fill="lighten" w="48788" h="21600">
                <a:moveTo>
                  <a:pt x="0" y="21600"/>
                </a:moveTo>
                <a:lnTo>
                  <a:pt x="0" y="0"/>
                </a:lnTo>
                <a:lnTo>
                  <a:pt x="2262" y="2262"/>
                </a:lnTo>
                <a:lnTo>
                  <a:pt x="2262" y="1933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Challe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ociety’s Welfare - Open Challeng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component of corporate social responsibility that must be achieved or render the other components m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conomic respons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ciety’s Welfare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ety’s codification of right and w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4600" y="198108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560" y="1981080"/>
            <a:ext cx="120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Odd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144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86560" y="19558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9200" y="198108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153280" y="0"/>
            <a:ext cx="990720" cy="990720"/>
          </a:xfrm>
          <a:custGeom>
            <a:avLst/>
            <a:gdLst>
              <a:gd name="textAreaLeft" fmla="*/ 137520 w 990720"/>
              <a:gd name="textAreaRight" fmla="*/ 853200 w 990720"/>
              <a:gd name="textAreaTop" fmla="*/ 137520 h 990720"/>
              <a:gd name="textAreaBottom" fmla="*/ 853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00" y="3000"/>
                </a:lnTo>
                <a:lnTo>
                  <a:pt x="3000" y="30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00" y="18600"/>
                </a:lnTo>
                <a:lnTo>
                  <a:pt x="18600" y="30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000" y="18600"/>
                </a:lnTo>
                <a:lnTo>
                  <a:pt x="18600" y="18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000" y="3000"/>
                </a:lnTo>
                <a:lnTo>
                  <a:pt x="3000" y="18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5040" y="640080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on a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int 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elect a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swer/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9040" y="1981080"/>
            <a:ext cx="14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eling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2"/>
          </p:cNvPr>
          <p:cNvSpPr/>
          <p:nvPr/>
        </p:nvSpPr>
        <p:spPr>
          <a:xfrm>
            <a:off x="6858000" y="0"/>
            <a:ext cx="1143000" cy="990720"/>
          </a:xfrm>
          <a:custGeom>
            <a:avLst/>
            <a:gdLst>
              <a:gd name="textAreaLeft" fmla="*/ 141120 w 1143000"/>
              <a:gd name="textAreaRight" fmla="*/ 1001880 w 1143000"/>
              <a:gd name="textAreaTop" fmla="*/ 141120 h 990720"/>
              <a:gd name="textAreaBottom" fmla="*/ 84960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1839" y="3080"/>
                </a:lnTo>
                <a:lnTo>
                  <a:pt x="3080" y="308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1839" y="18520"/>
                </a:lnTo>
                <a:lnTo>
                  <a:pt x="21839" y="308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3080" y="18520"/>
                </a:lnTo>
                <a:lnTo>
                  <a:pt x="21839" y="1852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3080" y="3080"/>
                </a:lnTo>
                <a:lnTo>
                  <a:pt x="3080" y="1852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0" y="1066680"/>
            <a:ext cx="2286000" cy="762120"/>
          </a:xfrm>
          <a:custGeom>
            <a:avLst/>
            <a:gdLst>
              <a:gd name="textAreaLeft" fmla="*/ 138960 w 2286000"/>
              <a:gd name="textAreaRight" fmla="*/ 2147040 w 2286000"/>
              <a:gd name="textAreaTop" fmla="*/ 138960 h 762120"/>
              <a:gd name="textAreaBottom" fmla="*/ 62316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0832" y="3938"/>
                </a:lnTo>
                <a:lnTo>
                  <a:pt x="3938" y="3938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0832" y="17662"/>
                </a:lnTo>
                <a:lnTo>
                  <a:pt x="60832" y="3938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60832" y="17662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inal Challenge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o Wants to Be a Marketer?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ound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280" y="8380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hapter 3 – Ethics and Social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905120"/>
            <a:ext cx="60958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120" y="271764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7800" y="266688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0280" y="266688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6920" y="271764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82040" y="264168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1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rm used in the chapter to describe the factors that binds society toge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cial glu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2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d by governments and enforced by governmental autho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3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When informed and engaged, can mold corporate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 active civil socie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4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irm that follows standards that are not enforced by law is practicing thi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lf regul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Be Civilized - 500 point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escription for acceptable and desired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 code of condu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Do not believe in absolute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 relativi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ice, humor, heroism, and autonomy all belong to this set of stand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tandards for Being Virtuou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o prohibit illegal business dealings, the U.S. government passed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reign Corrupt Practices Ac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at global competitors might not practice social respons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 argument against social respons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ds &amp; End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such as “How is it structured? and “Who does it benefit?” should be asked before participating in what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ause-related marketing progr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ops!  You’ve clicked on an area other than a point value or button. Please click below to return to the main answer boar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1828800" y="5334120"/>
            <a:ext cx="5410080" cy="1042920"/>
          </a:xfrm>
          <a:custGeom>
            <a:avLst/>
            <a:gdLst>
              <a:gd name="textAreaLeft" fmla="*/ 260640 w 5410080"/>
              <a:gd name="textAreaRight" fmla="*/ 5149440 w 5410080"/>
              <a:gd name="textAreaTop" fmla="*/ 260640 h 1042920"/>
              <a:gd name="textAreaBottom" fmla="*/ 782280 h 1042920"/>
            </a:gdLst>
            <a:ahLst/>
            <a:rect l="textAreaLeft" t="textAreaTop" r="textAreaRight" b="textAreaBottom"/>
            <a:pathLst>
              <a:path w="112017" h="21600">
                <a:moveTo>
                  <a:pt x="0" y="0"/>
                </a:moveTo>
                <a:lnTo>
                  <a:pt x="112017" y="0"/>
                </a:lnTo>
                <a:lnTo>
                  <a:pt x="112017" y="21600"/>
                </a:lnTo>
                <a:lnTo>
                  <a:pt x="0" y="21600"/>
                </a:lnTo>
                <a:close/>
              </a:path>
              <a:path fill="lightenLess" w="112017" h="21600">
                <a:moveTo>
                  <a:pt x="0" y="0"/>
                </a:moveTo>
                <a:lnTo>
                  <a:pt x="112017" y="0"/>
                </a:lnTo>
                <a:lnTo>
                  <a:pt x="106618" y="5400"/>
                </a:lnTo>
                <a:lnTo>
                  <a:pt x="5400" y="5400"/>
                </a:lnTo>
                <a:close/>
              </a:path>
              <a:path fill="darken" w="112017" h="21600">
                <a:moveTo>
                  <a:pt x="112017" y="0"/>
                </a:moveTo>
                <a:lnTo>
                  <a:pt x="112017" y="21600"/>
                </a:lnTo>
                <a:lnTo>
                  <a:pt x="106618" y="16200"/>
                </a:lnTo>
                <a:lnTo>
                  <a:pt x="106618" y="5400"/>
                </a:lnTo>
                <a:close/>
              </a:path>
              <a:path fill="darkenLess" w="112017" h="21600">
                <a:moveTo>
                  <a:pt x="11201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6618" y="16200"/>
                </a:lnTo>
                <a:close/>
              </a:path>
              <a:path fill="lighten" w="11201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Return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19810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emograph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36720" y="1905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7160" y="213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8680" y="198108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t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7320" y="19810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990720"/>
            <a:ext cx="1752480" cy="838080"/>
          </a:xfrm>
          <a:custGeom>
            <a:avLst/>
            <a:gdLst>
              <a:gd name="textAreaLeft" fmla="*/ 148320 w 1752480"/>
              <a:gd name="textAreaRight" fmla="*/ 1604160 w 1752480"/>
              <a:gd name="textAreaTop" fmla="*/ 148320 h 838080"/>
              <a:gd name="textAreaBottom" fmla="*/ 68976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1332" y="3825"/>
                </a:lnTo>
                <a:lnTo>
                  <a:pt x="3825" y="3825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1332" y="17775"/>
                </a:lnTo>
                <a:lnTo>
                  <a:pt x="41332" y="3825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41332" y="17775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 Challenge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2400" y="638964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on a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int 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select a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swer/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ho Wants to Be a Marketer?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ound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40" y="73332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hapter 3 – Ethics and Social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60962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000" y="274320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11480" y="274320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7880" y="281952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00400" y="279396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53240" y="2793960"/>
            <a:ext cx="109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0"/>
            <a:ext cx="1752480" cy="838080"/>
          </a:xfrm>
          <a:custGeom>
            <a:avLst/>
            <a:gdLst>
              <a:gd name="textAreaLeft" fmla="*/ 119520 w 1752480"/>
              <a:gd name="textAreaRight" fmla="*/ 1632960 w 1752480"/>
              <a:gd name="textAreaTop" fmla="*/ 119520 h 838080"/>
              <a:gd name="textAreaBottom" fmla="*/ 71856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2077" y="3080"/>
                </a:lnTo>
                <a:lnTo>
                  <a:pt x="3080" y="308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2077" y="18520"/>
                </a:lnTo>
                <a:lnTo>
                  <a:pt x="42077" y="308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3080" y="18520"/>
                </a:lnTo>
                <a:lnTo>
                  <a:pt x="42077" y="1852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3080" y="3080"/>
                </a:lnTo>
                <a:lnTo>
                  <a:pt x="3080" y="1852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 ano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0000" y="198108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s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ops!  You’ve clicked on an area other than a point value or button. Please click below to return to the main answer boar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1828800" y="5334120"/>
            <a:ext cx="5410080" cy="1042920"/>
          </a:xfrm>
          <a:custGeom>
            <a:avLst/>
            <a:gdLst>
              <a:gd name="textAreaLeft" fmla="*/ 260640 w 5410080"/>
              <a:gd name="textAreaRight" fmla="*/ 5149440 w 5410080"/>
              <a:gd name="textAreaTop" fmla="*/ 260640 h 1042920"/>
              <a:gd name="textAreaBottom" fmla="*/ 782280 h 1042920"/>
            </a:gdLst>
            <a:ahLst/>
            <a:rect l="textAreaLeft" t="textAreaTop" r="textAreaRight" b="textAreaBottom"/>
            <a:pathLst>
              <a:path w="112017" h="21600">
                <a:moveTo>
                  <a:pt x="0" y="0"/>
                </a:moveTo>
                <a:lnTo>
                  <a:pt x="112017" y="0"/>
                </a:lnTo>
                <a:lnTo>
                  <a:pt x="112017" y="21600"/>
                </a:lnTo>
                <a:lnTo>
                  <a:pt x="0" y="21600"/>
                </a:lnTo>
                <a:close/>
              </a:path>
              <a:path fill="lightenLess" w="112017" h="21600">
                <a:moveTo>
                  <a:pt x="0" y="0"/>
                </a:moveTo>
                <a:lnTo>
                  <a:pt x="112017" y="0"/>
                </a:lnTo>
                <a:lnTo>
                  <a:pt x="106618" y="5400"/>
                </a:lnTo>
                <a:lnTo>
                  <a:pt x="5400" y="5400"/>
                </a:lnTo>
                <a:close/>
              </a:path>
              <a:path fill="darken" w="112017" h="21600">
                <a:moveTo>
                  <a:pt x="112017" y="0"/>
                </a:moveTo>
                <a:lnTo>
                  <a:pt x="112017" y="21600"/>
                </a:lnTo>
                <a:lnTo>
                  <a:pt x="106618" y="16200"/>
                </a:lnTo>
                <a:lnTo>
                  <a:pt x="106618" y="5400"/>
                </a:lnTo>
                <a:close/>
              </a:path>
              <a:path fill="darkenLess" w="112017" h="21600">
                <a:moveTo>
                  <a:pt x="11201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6618" y="16200"/>
                </a:lnTo>
                <a:close/>
              </a:path>
              <a:path fill="lighten" w="11201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Return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tion for which technology is ubiquito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Generation 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Generation X, Generation Y, and Baby Boomers, the one that is the largest in total nu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aby Boom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that is outsourcing the tasks of daily life and that spends 78% more on personal servi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eneration 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As of today, this group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rgest ethnic minority gro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ispanic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mericans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12.5% of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graphic Factor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most diverse county in the United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n Francisc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un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rtion of the U.S. population constituted by minor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1/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primary determinant of a person’s earning potent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: For a company which targets US consumer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tween the ages 36-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t is the expected direction in the size of the target market during the next decade (i.e, either increasing in size or decreasing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creas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mers move out of this ag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and Gen-X moves 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guideline to help marketing managers make better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de of ethic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Where the largest percentage of Americans who move 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ithin their hom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un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Possibilitie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e ethnic group whose spending power has increased the most percentage points since 199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ispanic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mericans (increase o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15%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890, it was the first major piece of antitrust legislation.  This act made trusts and conspiracies in restraint of trade illeg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herman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936, this act prohib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ice discrimin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harging different prices to different buyers of products that are of similar grade and quality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obinson-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tman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938 as an amendment to the Federal Trade Commission Act, this legislation broadened the powers of the FTC and prohibited false and deceptive adverti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eeler-Le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mend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Passed in 1914, one of the practices made illegal by this act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ying agreem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requiring the buyers of one product to also buy another product in the li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ayton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’s the Law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ed in 1946, this act establishes protection for trademar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nham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1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DuPont has changed its marketing strategy to being a good corporate citizen, or fulfilling this level of social responsibil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hilanthropi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2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is generation controls and influences approximately $1.8 trillion per year around the world through their own pocket money and their unprecedented influence on their parents’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wee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3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Constrained career opportunities for young Japanese women is a result of this factor in extern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conomi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ral principles or val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generally govern the conduct of an individual or group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th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pourri - 400 point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Companies use various strategies to instill this in their employees, including using games to practice ethical decision ma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usiness eth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680" y="838080"/>
            <a:ext cx="6629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pen Challenge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2664360" y="3809880"/>
            <a:ext cx="468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how much of your to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ant to wager, then click be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3048120" y="4952880"/>
            <a:ext cx="3733560" cy="1652760"/>
          </a:xfrm>
          <a:custGeom>
            <a:avLst/>
            <a:gdLst>
              <a:gd name="textAreaLeft" fmla="*/ 179280 w 3733560"/>
              <a:gd name="textAreaRight" fmla="*/ 3554280 w 3733560"/>
              <a:gd name="textAreaTop" fmla="*/ 179280 h 1652760"/>
              <a:gd name="textAreaBottom" fmla="*/ 1473480 h 1652760"/>
            </a:gdLst>
            <a:ahLst/>
            <a:rect l="textAreaLeft" t="textAreaTop" r="textAreaRight" b="textAreaBottom"/>
            <a:pathLst>
              <a:path w="48788" h="21600">
                <a:moveTo>
                  <a:pt x="0" y="0"/>
                </a:moveTo>
                <a:lnTo>
                  <a:pt x="48788" y="0"/>
                </a:lnTo>
                <a:lnTo>
                  <a:pt x="48788" y="21600"/>
                </a:lnTo>
                <a:lnTo>
                  <a:pt x="0" y="21600"/>
                </a:lnTo>
                <a:close/>
              </a:path>
              <a:path fill="lightenLess" w="48788" h="21600">
                <a:moveTo>
                  <a:pt x="0" y="0"/>
                </a:moveTo>
                <a:lnTo>
                  <a:pt x="48788" y="0"/>
                </a:lnTo>
                <a:lnTo>
                  <a:pt x="46443" y="2345"/>
                </a:lnTo>
                <a:lnTo>
                  <a:pt x="2345" y="2345"/>
                </a:lnTo>
                <a:close/>
              </a:path>
              <a:path fill="darken" w="48788" h="21600">
                <a:moveTo>
                  <a:pt x="48788" y="0"/>
                </a:moveTo>
                <a:lnTo>
                  <a:pt x="48788" y="21600"/>
                </a:lnTo>
                <a:lnTo>
                  <a:pt x="46443" y="19255"/>
                </a:lnTo>
                <a:lnTo>
                  <a:pt x="46443" y="2345"/>
                </a:lnTo>
                <a:close/>
              </a:path>
              <a:path fill="darkenLess" w="48788" h="21600">
                <a:moveTo>
                  <a:pt x="48788" y="21600"/>
                </a:moveTo>
                <a:lnTo>
                  <a:pt x="0" y="21600"/>
                </a:lnTo>
                <a:lnTo>
                  <a:pt x="2345" y="19255"/>
                </a:lnTo>
                <a:lnTo>
                  <a:pt x="46443" y="19255"/>
                </a:lnTo>
                <a:close/>
              </a:path>
              <a:path fill="lighten" w="48788" h="21600">
                <a:moveTo>
                  <a:pt x="0" y="21600"/>
                </a:moveTo>
                <a:lnTo>
                  <a:pt x="0" y="0"/>
                </a:lnTo>
                <a:lnTo>
                  <a:pt x="2345" y="2345"/>
                </a:lnTo>
                <a:lnTo>
                  <a:pt x="2345" y="1925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Challen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tpourri - Open Challeng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Entrepreneurship Case, the highest level of social responsibility attained by Rockstar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egal respons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refers to the rules people develop as a result of cultural values and norms.  They are the foundation of ethical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2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the most basic level of ethics.  It is calculating, self-centered, and even selfish, based on what will be immediately punished or rewar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econventional mor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a written set of guidelines developed by an organization to assist employees in making ethical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de of eth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Th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vel of ethical develop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be associated with the following statement from a marketer: “Yes, I know the action is legal and will help us build market share.  But is it right in the long run?  Will it do more good than harm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tconvention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ic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 Outperforming the market by viewing solving the world’s social problems as an opportunity to build profit and help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ustaina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905120" y="1143000"/>
            <a:ext cx="5410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Challenge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4" name=""/>
          <p:cNvSpPr/>
          <p:nvPr/>
        </p:nvSpPr>
        <p:spPr>
          <a:xfrm>
            <a:off x="2976120" y="30492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now, it’s tim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1040" y="3733920"/>
            <a:ext cx="589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two pieces of pap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one piece, write your team’s wa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the other piece of paper to writ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” for the final challenge “answ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1371600" y="5791320"/>
            <a:ext cx="6781680" cy="609480"/>
          </a:xfrm>
          <a:custGeom>
            <a:avLst/>
            <a:gdLst>
              <a:gd name="textAreaLeft" fmla="*/ 107640 w 6781680"/>
              <a:gd name="textAreaRight" fmla="*/ 6674040 w 6781680"/>
              <a:gd name="textAreaTop" fmla="*/ 107640 h 609480"/>
              <a:gd name="textAreaBottom" fmla="*/ 501840 h 609480"/>
            </a:gdLst>
            <a:ahLst/>
            <a:rect l="textAreaLeft" t="textAreaTop" r="textAreaRight" b="textAreaBottom"/>
            <a:pathLst>
              <a:path w="240214" h="21600">
                <a:moveTo>
                  <a:pt x="0" y="0"/>
                </a:moveTo>
                <a:lnTo>
                  <a:pt x="240214" y="0"/>
                </a:lnTo>
                <a:lnTo>
                  <a:pt x="240214" y="21600"/>
                </a:lnTo>
                <a:lnTo>
                  <a:pt x="0" y="21600"/>
                </a:lnTo>
                <a:close/>
              </a:path>
              <a:path fill="lightenLess" w="240214" h="21600">
                <a:moveTo>
                  <a:pt x="0" y="0"/>
                </a:moveTo>
                <a:lnTo>
                  <a:pt x="240214" y="0"/>
                </a:lnTo>
                <a:lnTo>
                  <a:pt x="236389" y="3825"/>
                </a:lnTo>
                <a:lnTo>
                  <a:pt x="3825" y="3825"/>
                </a:lnTo>
                <a:close/>
              </a:path>
              <a:path fill="darken" w="240214" h="21600">
                <a:moveTo>
                  <a:pt x="240214" y="0"/>
                </a:moveTo>
                <a:lnTo>
                  <a:pt x="240214" y="21600"/>
                </a:lnTo>
                <a:lnTo>
                  <a:pt x="236389" y="17775"/>
                </a:lnTo>
                <a:lnTo>
                  <a:pt x="236389" y="3825"/>
                </a:lnTo>
                <a:close/>
              </a:path>
              <a:path fill="darkenLess" w="240214" h="21600">
                <a:moveTo>
                  <a:pt x="24021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236389" y="17775"/>
                </a:lnTo>
                <a:close/>
              </a:path>
              <a:path fill="lighten" w="24021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here for the Final Challenge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 Challenge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the correct order (from top to bottom) of the four levels i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yramid of corporate social responsi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nthropic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hical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hilanthropic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thical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gal responsibi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conomic responsibil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38080" y="6019920"/>
            <a:ext cx="7553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s for playing Who Wants to Be a Marketer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3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ules people develop as a result of cultural values and nor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a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4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thical theory that holds that when people are confronted with an ethical dilemma, they should adhere to their obligations and du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ontological theo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rms - 5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odel that holds that a firm’s economic performance is the foundation of corporate respons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yramid of corporate social responsibi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Ethics - 100 po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erm describes the most basic level of ethical develop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econventional mor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2819520" y="5867280"/>
            <a:ext cx="3886200" cy="738360"/>
          </a:xfrm>
          <a:custGeom>
            <a:avLst/>
            <a:gdLst>
              <a:gd name="textAreaLeft" fmla="*/ 117360 w 3886200"/>
              <a:gd name="textAreaRight" fmla="*/ 3768840 w 3886200"/>
              <a:gd name="textAreaTop" fmla="*/ 117360 h 738360"/>
              <a:gd name="textAreaBottom" fmla="*/ 621000 h 738360"/>
            </a:gdLst>
            <a:ahLst/>
            <a:rect l="textAreaLeft" t="textAreaTop" r="textAreaRight" b="textAreaBottom"/>
            <a:pathLst>
              <a:path w="113642" h="21600">
                <a:moveTo>
                  <a:pt x="0" y="0"/>
                </a:moveTo>
                <a:lnTo>
                  <a:pt x="113642" y="0"/>
                </a:lnTo>
                <a:lnTo>
                  <a:pt x="113642" y="21600"/>
                </a:lnTo>
                <a:lnTo>
                  <a:pt x="0" y="21600"/>
                </a:lnTo>
                <a:close/>
              </a:path>
              <a:path fill="lightenLess" w="113642" h="21600">
                <a:moveTo>
                  <a:pt x="0" y="0"/>
                </a:moveTo>
                <a:lnTo>
                  <a:pt x="113642" y="0"/>
                </a:lnTo>
                <a:lnTo>
                  <a:pt x="110205" y="3437"/>
                </a:lnTo>
                <a:lnTo>
                  <a:pt x="3437" y="3437"/>
                </a:lnTo>
                <a:close/>
              </a:path>
              <a:path fill="darken" w="113642" h="21600">
                <a:moveTo>
                  <a:pt x="113642" y="0"/>
                </a:moveTo>
                <a:lnTo>
                  <a:pt x="113642" y="21600"/>
                </a:lnTo>
                <a:lnTo>
                  <a:pt x="110205" y="18163"/>
                </a:lnTo>
                <a:lnTo>
                  <a:pt x="110205" y="3437"/>
                </a:lnTo>
                <a:close/>
              </a:path>
              <a:path fill="darkenLess" w="113642" h="21600">
                <a:moveTo>
                  <a:pt x="113642" y="21600"/>
                </a:moveTo>
                <a:lnTo>
                  <a:pt x="0" y="21600"/>
                </a:lnTo>
                <a:lnTo>
                  <a:pt x="3437" y="18163"/>
                </a:lnTo>
                <a:lnTo>
                  <a:pt x="110205" y="18163"/>
                </a:lnTo>
                <a:close/>
              </a:path>
              <a:path fill="lighten" w="113642" h="21600">
                <a:moveTo>
                  <a:pt x="0" y="21600"/>
                </a:moveTo>
                <a:lnTo>
                  <a:pt x="0" y="0"/>
                </a:lnTo>
                <a:lnTo>
                  <a:pt x="3437" y="3437"/>
                </a:lnTo>
                <a:lnTo>
                  <a:pt x="3437" y="1816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the answ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6:27:51Z</dcterms:created>
  <dc:creator>John Drea</dc:creator>
  <dc:description/>
  <dc:language>en-US</dc:language>
  <cp:lastModifiedBy>Dana Freeman</cp:lastModifiedBy>
  <dcterms:modified xsi:type="dcterms:W3CDTF">2008-11-13T23:26:10Z</dcterms:modified>
  <cp:revision>31</cp:revision>
  <dc:subject/>
  <dc:title>No Slide Title</dc:title>
</cp:coreProperties>
</file>